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634-3070-410F-8450-094DDC88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40F-A707-41AA-A565-3FC4EDBA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B8E-503C-4C78-B072-BC9899AE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E98-67CB-4EEB-A116-DC914F30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192-967A-4594-B204-8669015D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7C8-3C26-499B-A65F-373DA05D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8C6-6277-44BA-B3A7-07A1CCF2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B1F-4728-4C44-B002-04A1BD26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FBD-6C28-49E3-A6B1-DB6F2E6F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DD7-54D8-43B3-8810-6B77E54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F7D-A88E-4ACD-AAC7-12B9A88C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4BD-6D4F-4ED3-AFAD-DE91F048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7E06-9199-4781-AD5C-71E4781083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7040" y="213372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 o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4370"/>
          <a:stretch/>
        </p:blipFill>
        <p:spPr>
          <a:xfrm>
            <a:off x="762120" y="68580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77120" y="5943600"/>
            <a:ext cx="1752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30004"/>
          <a:stretch/>
        </p:blipFill>
        <p:spPr>
          <a:xfrm>
            <a:off x="838080" y="30492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37002" t="52007" r="17001" b="26000"/>
          <a:stretch/>
        </p:blipFill>
        <p:spPr>
          <a:xfrm>
            <a:off x="838080" y="403848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42108"/>
          <a:stretch/>
        </p:blipFill>
        <p:spPr>
          <a:xfrm>
            <a:off x="838080" y="380880"/>
            <a:ext cx="746784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1003" t="58004" r="20001" b="27336"/>
          <a:stretch/>
        </p:blipFill>
        <p:spPr>
          <a:xfrm>
            <a:off x="914400" y="4191120"/>
            <a:ext cx="731520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0" t="69771" r="0" b="24909"/>
          <a:stretch/>
        </p:blipFill>
        <p:spPr>
          <a:xfrm>
            <a:off x="838080" y="3352680"/>
            <a:ext cx="7467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43485"/>
          <a:stretch/>
        </p:blipFill>
        <p:spPr>
          <a:xfrm>
            <a:off x="762120" y="762120"/>
            <a:ext cx="746748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7002" t="51339" r="17998" b="26000"/>
          <a:stretch/>
        </p:blipFill>
        <p:spPr>
          <a:xfrm>
            <a:off x="838080" y="3657600"/>
            <a:ext cx="73152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0" t="74077" r="0" b="16573"/>
          <a:stretch/>
        </p:blipFill>
        <p:spPr>
          <a:xfrm>
            <a:off x="762120" y="2895480"/>
            <a:ext cx="7467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8962"/>
          <a:stretch/>
        </p:blipFill>
        <p:spPr>
          <a:xfrm>
            <a:off x="609480" y="45720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9113"/>
          <a:stretch/>
        </p:blipFill>
        <p:spPr>
          <a:xfrm>
            <a:off x="76212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18563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762120" y="1371600"/>
            <a:ext cx="7543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990720" y="914400"/>
            <a:ext cx="7162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914400"/>
            <a:ext cx="7162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90720" y="45720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4560" y="762120"/>
            <a:ext cx="43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-Step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838080"/>
            <a:ext cx="7010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914400" y="83808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33784"/>
          <a:stretch/>
        </p:blipFill>
        <p:spPr>
          <a:xfrm>
            <a:off x="685800" y="3808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37002" t="52668" r="17001" b="19335"/>
          <a:stretch/>
        </p:blipFill>
        <p:spPr>
          <a:xfrm>
            <a:off x="685800" y="373392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60270"/>
          <a:stretch/>
        </p:blipFill>
        <p:spPr>
          <a:xfrm>
            <a:off x="457200" y="762120"/>
            <a:ext cx="8153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68580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5233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457200"/>
            <a:ext cx="7619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858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066680" y="457200"/>
            <a:ext cx="7162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1:20:26Z</dcterms:modified>
  <cp:revision>219</cp:revision>
  <dc:subject/>
  <dc:title>Slide 1</dc:title>
</cp:coreProperties>
</file>